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0170"/>
        <c:axId val="99207201"/>
      </c:barChart>
      <c:catAx>
        <c:axId val="1410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07201"/>
        <c:crosses val="autoZero"/>
        <c:auto val="1"/>
        <c:lblAlgn val="ctr"/>
        <c:lblOffset val="100"/>
        <c:noMultiLvlLbl val="0"/>
      </c:catAx>
      <c:valAx>
        <c:axId val="99207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0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C78-9419-49EF-B659-F8FB46BC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7F8-912A-4C1A-B9CE-4A19D61B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E65-8997-4401-BA41-5348D9D9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4D5-4AFF-484B-8ACD-C1EF9F82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FF3-4243-4C3D-BA6D-B4BF8C39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B98-B608-421A-8BD8-15530B18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81B-434E-43E0-8097-34006ABF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7F2-1CE8-47B5-83DD-CFB0E8C5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3C6-81CF-4B5E-883F-86C7F7EC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A80-44D9-4839-A979-E82FA81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230-2A86-4DEC-9F30-8482D5D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29D-6DB4-49E7-BC25-6002C2FD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5040F-E9B0-4F3F-845F-866218AEA4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