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80556"/>
        <c:axId val="45597829"/>
      </c:barChart>
      <c:catAx>
        <c:axId val="46080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97829"/>
        <c:crosses val="autoZero"/>
        <c:auto val="1"/>
        <c:lblAlgn val="ctr"/>
        <c:lblOffset val="100"/>
        <c:noMultiLvlLbl val="0"/>
      </c:catAx>
      <c:valAx>
        <c:axId val="45597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80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9D3-6695-4EAD-8380-284078D8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41D-326D-4A15-8862-C69ABA95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96B-1683-4A90-A012-054C5BB9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D06-B23B-49E4-BE41-219CBD2D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82E-8F3A-4391-8F40-CE6BA4F0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1C1-BFB0-43C9-B0F0-62EC9C6B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93A-7AC0-475A-ACA9-7EA6E456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471-2F9C-44E9-9237-4084907D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E48-03D6-4C8C-9253-E0217653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784-60B3-4828-AC90-4FBEC014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B9E-DD74-416B-88FD-38240B40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4E3-3C6A-4249-AC12-8703C46E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057D8-1585-43F2-B7D6-BAFF5CC89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