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91829"/>
        <c:axId val="10179831"/>
      </c:barChart>
      <c:catAx>
        <c:axId val="45991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9831"/>
        <c:crosses val="autoZero"/>
        <c:auto val="1"/>
        <c:lblAlgn val="ctr"/>
        <c:lblOffset val="100"/>
        <c:noMultiLvlLbl val="0"/>
      </c:catAx>
      <c:valAx>
        <c:axId val="10179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91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136-C00C-403D-80DB-825FD2F1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20F-E7AB-4A32-AA04-4B92D523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54F-F646-475B-85CB-C3DC9973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33B-ED47-4698-B703-64D0AC67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0CD-E20C-4D36-992D-FE41C69F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5F3-EAB5-44AA-927D-2BF23D21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3F8-79AF-4592-A6B5-D17F0857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5A9-C13B-4A16-A056-35EA73C9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A72-070F-4A82-B491-5803337F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232-4C8F-4717-A88A-07231BB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739-F3B1-47E4-8E8C-FCD0AC72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429-4AF4-49D2-81EF-186F5D4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6BB1F-7828-43DB-9B11-89AC2218DF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