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4771386"/>
        <c:axId val="35157391"/>
      </c:barChart>
      <c:catAx>
        <c:axId val="4477138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157391"/>
        <c:crosses val="autoZero"/>
        <c:auto val="1"/>
        <c:lblAlgn val="ctr"/>
        <c:lblOffset val="100"/>
        <c:noMultiLvlLbl val="0"/>
      </c:catAx>
      <c:valAx>
        <c:axId val="3515739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77138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F215-2BDB-4A62-A125-EB3200B14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A82C-A19B-4372-AEEB-E9D4FD1CC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C0DF-291E-45B7-8643-088ED47A0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34F8-D696-4326-8CF8-91F0EDD6C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FB2B-A294-4BA6-8DEB-48D434520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E7A4-97C1-4689-9ABB-71E8F6093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27B7-49E5-44B3-AEFE-CDEB8FB5E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5C4D-C8FD-4DD3-9787-0B5A6100A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3F2D-357B-4E44-9F0D-4EF054D9F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D82C-963D-4EC3-9E46-BC6AE03CF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BBBE-B6D5-44F2-A46D-1C343C2D6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35F5-1E0B-40F1-A6D0-A0BD5EEB2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7F4A38-ABE7-4F8B-97C9-FE2A515E9BB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