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615156"/>
        <c:axId val="52964083"/>
      </c:barChart>
      <c:catAx>
        <c:axId val="616151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964083"/>
        <c:crosses val="autoZero"/>
        <c:auto val="1"/>
        <c:lblAlgn val="ctr"/>
        <c:lblOffset val="100"/>
        <c:noMultiLvlLbl val="0"/>
      </c:catAx>
      <c:valAx>
        <c:axId val="529640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151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6AFC-9CCC-4DC8-ACEC-A80B4DD66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7620-711A-42F7-9589-D92063AC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FE51-BF80-40AE-862E-5F2F32EB0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87F7-AE0E-4A4E-9088-0A1610260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7B22-CFBE-4B45-84CA-A2223A7D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5DB1-BFDA-4F5C-AC77-20DB65B2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146D-1AB5-401C-86E3-43AB8270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EE6F-7A1F-46AE-A290-9FC6374A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2B76-578B-4D3F-965F-20B04D95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9604-E5E9-462A-BFC0-5D3DDC7E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D91A-4300-4589-ACE4-A533CF37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5B83-7CAC-468A-9579-A56F1EAF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601CD-1A1D-4EA7-BB50-5D7BBED61E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