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33088"/>
        <c:axId val="13558071"/>
      </c:barChart>
      <c:catAx>
        <c:axId val="16333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58071"/>
        <c:crosses val="autoZero"/>
        <c:auto val="1"/>
        <c:lblAlgn val="ctr"/>
        <c:lblOffset val="100"/>
        <c:noMultiLvlLbl val="0"/>
      </c:catAx>
      <c:valAx>
        <c:axId val="13558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33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AD6-9AA7-482B-AB6B-82ADE93C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C5B-C26E-4E95-876E-96FC0389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CD1-7BEF-45E7-821E-C9FF525E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9EE-C3D7-4868-A5B9-8B53C69E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806-372F-4068-854A-697A01D1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C5A-42E0-4898-AAAD-2AFF7A9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011-5796-4DEA-81C1-363E011A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B0F-99FE-4CFC-9823-602A34B3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0A0-9996-46D1-948F-3FDA41C4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D74-198F-4B9D-A3C6-64E5CEB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F04-0D3F-4DD6-B786-77585CE0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0EB-A2A8-4D7C-AC1C-619273B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CD613-D197-4273-9715-63E732CDB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