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3437312"/>
        <c:axId val="40828199"/>
      </c:barChart>
      <c:catAx>
        <c:axId val="5343731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0828199"/>
        <c:crosses val="autoZero"/>
        <c:auto val="1"/>
        <c:lblAlgn val="ctr"/>
        <c:lblOffset val="100"/>
        <c:noMultiLvlLbl val="0"/>
      </c:catAx>
      <c:valAx>
        <c:axId val="4082819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343731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2A367-DB3D-46B3-81B3-B343F882D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4275B-5066-4B8F-A39E-146D88F1B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08FAB-54D7-4D31-85CA-E335077E6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D7F9E-F67A-4474-88A3-F8D87E73E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8F796-69A0-461B-9728-131789173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232E0-2F7A-4713-AE98-F686F8C14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B3A89-825E-40F8-8A4B-0D30913B6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90664-F8ED-484B-86E8-264B45943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8E156-73E8-4BE5-81F5-D38F74DF7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10C33-D183-4D87-8A93-99FEFAD1D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7E3EE-063D-48E9-987D-90E63DEAF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D352D-10EA-45A4-955B-8B64F616C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FE98BE-28E4-4F2D-BC59-CBDC0950D4F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