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03347"/>
        <c:axId val="13069232"/>
      </c:barChart>
      <c:catAx>
        <c:axId val="23503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69232"/>
        <c:crosses val="autoZero"/>
        <c:auto val="1"/>
        <c:lblAlgn val="ctr"/>
        <c:lblOffset val="100"/>
        <c:noMultiLvlLbl val="0"/>
      </c:catAx>
      <c:valAx>
        <c:axId val="13069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03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6DE-3AE9-4999-92B4-82EFA4F0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72A-7E56-448D-B5EF-8D4BE5F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9E4-A12C-465C-8A3D-39E4B7D2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1C5-C0CA-4122-9596-FE355BC8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4CF-0418-4C76-B7F7-9CA091C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C5B-F297-4A2C-80F4-A4E17E3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2D2-3AB8-4B02-9DD8-F4B0BA4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6D8-3085-4DE1-BF66-C3B6CA27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F88-A4AC-4F27-91C9-2246E713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783-CC6E-424D-AB78-63AA104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562-2169-41E9-B4AC-F64FA1C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AE1-6771-4E5F-8225-33F0C0CB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3794-A766-4342-A364-04C7E96AE7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