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0439"/>
        <c:axId val="26319797"/>
      </c:barChart>
      <c:catAx>
        <c:axId val="2100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19797"/>
        <c:crosses val="autoZero"/>
        <c:auto val="1"/>
        <c:lblAlgn val="ctr"/>
        <c:lblOffset val="100"/>
        <c:noMultiLvlLbl val="0"/>
      </c:catAx>
      <c:valAx>
        <c:axId val="26319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0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039-C1E5-4289-8A53-1A948ED9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54B-F037-4576-AD2B-AA5D9CB2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4F1-0261-4774-B64D-DAF59E79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4C0-7481-49A1-8C57-9C701D87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91F-5FCD-40A4-9BB4-204540C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243-4B4B-4095-A775-59798A96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B69-A6A1-4506-A318-3E5E883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2C2-C096-4A91-8C56-18661ACC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CF7-8C30-47CC-9661-4997E296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4FE-2AE5-41D1-8427-8EA0C21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2F0-E912-4A47-B00F-807F40D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D79-AA62-431D-943B-2575662F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7EF50-775C-4899-9B97-6886BAABB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