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87301"/>
        <c:axId val="19575929"/>
      </c:barChart>
      <c:catAx>
        <c:axId val="52787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75929"/>
        <c:crosses val="autoZero"/>
        <c:auto val="1"/>
        <c:lblAlgn val="ctr"/>
        <c:lblOffset val="100"/>
        <c:noMultiLvlLbl val="0"/>
      </c:catAx>
      <c:valAx>
        <c:axId val="19575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87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847-9DE5-44B7-9EA8-92C0F771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6CB-F3DA-40E5-86D2-24538CEC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83DF-9312-4634-A2B4-AE9DFB70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896-A3D4-4942-8C97-46BFB568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AC6-59EE-43D9-94B0-46169705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1F5C-868D-45D7-A3F2-38C3B288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7034-376B-4751-8863-17BED7D8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298-3019-4CED-8699-6AA1B549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037-2562-4D65-904A-D60A3AB4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36E-2C43-4233-BEC2-51F31FBA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EE57-C875-4729-9B35-E8F31F8F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397-E08A-46B2-9191-E9A2D3D0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37327-CA77-474B-ACCC-6BEEF1953C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