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08251"/>
        <c:axId val="5759956"/>
      </c:barChart>
      <c:catAx>
        <c:axId val="81708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9956"/>
        <c:crosses val="autoZero"/>
        <c:auto val="1"/>
        <c:lblAlgn val="ctr"/>
        <c:lblOffset val="100"/>
        <c:noMultiLvlLbl val="0"/>
      </c:catAx>
      <c:valAx>
        <c:axId val="5759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08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D02-7788-4B3B-B51C-C13038FA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9AC-3893-4C09-82ED-7EB0ED26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F6A-5E5B-4F17-96E3-AF35DC17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160-9C41-4689-88D4-BF20FD56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A17-4A6B-45D8-A191-25D69A32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AB5-4D2E-4F57-BC12-98A26AFC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CC5-4E38-445B-87D8-21A40048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A2F-CF88-4609-B25E-B9C12E3D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793-874A-4586-A472-0028F185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9D3-31C3-4B05-8571-EB8F19C9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3B4-28BC-4C59-99DF-0EAD4F55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E3E-BDB3-4C4D-827E-DE5CE48A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53D3B-673B-4384-8796-83D47497F6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