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78081"/>
        <c:axId val="97904659"/>
      </c:barChart>
      <c:catAx>
        <c:axId val="59378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4659"/>
        <c:crosses val="autoZero"/>
        <c:auto val="1"/>
        <c:lblAlgn val="ctr"/>
        <c:lblOffset val="100"/>
        <c:noMultiLvlLbl val="0"/>
      </c:catAx>
      <c:valAx>
        <c:axId val="97904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8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C8E-616B-4113-9BDD-C389554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918-1222-4145-A1F5-78765E0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653-5CB9-466D-A40E-E6E0341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CD3-8AE8-4BFD-9352-0E907D6A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52D-1AE9-4C6B-8019-412DC51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ABF-9FED-4D3E-A0DF-0302DBE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04D-250F-4680-AB94-414EBEAB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A8A-F9CD-4969-B8EC-E441AB9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ADB-4C93-4AC2-B784-5A5AB77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56F-4D75-4897-A243-31A177B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602-13A9-4C49-91FD-12AB9AE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E63-E055-48C7-8662-7D5D74D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A2A9E-D1B0-4BC2-9DB3-0E0384B396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