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34703"/>
        <c:axId val="62242393"/>
      </c:barChart>
      <c:catAx>
        <c:axId val="84534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42393"/>
        <c:crosses val="autoZero"/>
        <c:auto val="1"/>
        <c:lblAlgn val="ctr"/>
        <c:lblOffset val="100"/>
        <c:noMultiLvlLbl val="0"/>
      </c:catAx>
      <c:valAx>
        <c:axId val="62242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34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80D-C723-4095-837E-53EAB3AE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F2F-6F2B-4AF3-9862-D0B63AB7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C8FD-62F1-4D82-89DF-FE72737C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33BF-8D5C-406D-95B1-841D3918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6E8-7823-47BE-A899-CEC0EDD4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F6C-2AB2-453B-9798-86A46F5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10F-85C6-42BD-BD21-080BF1D2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761-597F-4D3F-8899-AE06469B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BC6-9C4E-49B7-86CE-EE0A3FA3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7E5-4707-4B90-BF5B-3273AB5A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2140-070F-41DF-81C6-506FC55B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B3B-D529-41D7-B14E-7B50D814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68AA0-58BE-4333-8B05-24DBC74D2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