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00903"/>
        <c:axId val="67732669"/>
      </c:barChart>
      <c:catAx>
        <c:axId val="16400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32669"/>
        <c:crosses val="autoZero"/>
        <c:auto val="1"/>
        <c:lblAlgn val="ctr"/>
        <c:lblOffset val="100"/>
        <c:noMultiLvlLbl val="0"/>
      </c:catAx>
      <c:valAx>
        <c:axId val="67732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00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C55-AC60-4B35-BE12-30DFED62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A06-3D52-4B04-8490-3C733641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DC3-DB61-48BE-A9CF-33F096B9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F5D-7E52-468F-858F-1263D7F9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1CF-3EF4-4429-A4CF-7F564B13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ED4-A306-44CF-AC13-9BCA8BA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6AF-8EE8-47E3-B949-9AFD1E6D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043-EA33-497C-84B8-EB70229B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949-3B27-4C29-A675-8FEE4BCF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DA8-9775-4C90-848A-308E889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72C-E1D4-4513-8A53-155E53B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A4F-680A-44D8-BF0A-012ABE02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086EB-A3BE-444F-A33A-AA933CBC26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