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27689"/>
        <c:axId val="95591181"/>
      </c:barChart>
      <c:catAx>
        <c:axId val="504276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91181"/>
        <c:crosses val="autoZero"/>
        <c:auto val="1"/>
        <c:lblAlgn val="ctr"/>
        <c:lblOffset val="100"/>
        <c:noMultiLvlLbl val="0"/>
      </c:catAx>
      <c:valAx>
        <c:axId val="95591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276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C624-0183-4B41-B302-DA624879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2A68-B727-4971-8F22-034B1BB9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A76-181F-4A9C-A524-9A83548F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F71E-DB98-4232-B030-CD2C23E3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5CA-45D7-41CF-8A80-BDF43A9C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817-C404-41E1-98A4-19AF0AC3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966-3C5E-4120-8600-E19734F6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176-F1DA-4B4A-90E0-ABBD076B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E35-063E-490A-86AD-15B11E60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A96-368B-4BE2-9203-6B483B54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8FCB-46E4-4777-81A3-57A8B8F6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D81-8202-43CB-9619-83EA3676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2D125-691A-427D-8800-ACE0E7C8E8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