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87460"/>
        <c:axId val="98580784"/>
      </c:barChart>
      <c:catAx>
        <c:axId val="368874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80784"/>
        <c:crosses val="autoZero"/>
        <c:auto val="1"/>
        <c:lblAlgn val="ctr"/>
        <c:lblOffset val="100"/>
        <c:noMultiLvlLbl val="0"/>
      </c:catAx>
      <c:valAx>
        <c:axId val="985807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874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4F6-74AA-42F2-B920-504B5B2B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AC61-B7D1-460B-BAD4-27F4F7FB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BE5-5497-4924-8A07-FE73113F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9D2-185A-4E1C-9E26-23E8243E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FE73-8649-43BF-BBC2-AEA6DBF7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92D-2DA4-4AB3-B148-D24F0AAA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BD51-4C63-4D2D-902C-BD613D61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3EE5-781A-417F-AF32-EB21364C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E76-057E-41F5-B68E-F9EA3A3C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1901-29D6-45B7-BADD-D550515A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7C4E-6BC2-41AC-9A77-CB076C3E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5ED0-4C2D-42AA-A8B3-F03DD17B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5DF65-ED4F-4142-989C-30B3CAE8CC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