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276619"/>
        <c:axId val="19488158"/>
      </c:barChart>
      <c:catAx>
        <c:axId val="67276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88158"/>
        <c:crosses val="autoZero"/>
        <c:auto val="1"/>
        <c:lblAlgn val="ctr"/>
        <c:lblOffset val="100"/>
        <c:noMultiLvlLbl val="0"/>
      </c:catAx>
      <c:valAx>
        <c:axId val="19488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76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AD3-FCD2-4D56-8D49-FFF61158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178-83C9-4999-9BBF-249896C4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B30-457F-4FBC-AE35-1CBEADA0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9C2-D8B8-4E31-A8CC-EE8E6A79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674-D1E0-4ABA-990C-449DB050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567-47A9-4CDA-9322-CF659CD7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093-DA3B-4626-9160-7E09B8D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558-F3D3-489E-82DD-F5263AB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C16-ECAA-4B9B-A631-8B61BAB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57C-48ED-4A27-8AB9-3BF09633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612-E429-47A4-BBE7-7E64BB41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D7F-500A-4356-8B21-456B085F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4FF59-D5B2-4C8F-81CA-3FE2921EA7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