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27360"/>
        <c:axId val="29683561"/>
      </c:barChart>
      <c:catAx>
        <c:axId val="81827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83561"/>
        <c:crosses val="autoZero"/>
        <c:auto val="1"/>
        <c:lblAlgn val="ctr"/>
        <c:lblOffset val="100"/>
        <c:noMultiLvlLbl val="0"/>
      </c:catAx>
      <c:valAx>
        <c:axId val="29683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27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899-0786-4B64-B9D5-B18A0693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33E-1A53-4BFE-883F-8AD7019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C5A-6683-47E0-96C4-C7FB3B08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2E9-5106-4A33-AABC-E9567F62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994-AD2D-4E6D-914A-8E1ACFD3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EDD-911F-41D1-A1CF-46D54929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2F4-74F1-4E45-817E-A027684B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78A-670F-44A5-B236-64F81D25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AFF-3C69-41CD-A86E-FB033D9C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64C-8FC4-45E7-819F-E4A05FFD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1ED-2148-4C72-B8EE-92605D0B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3D0-664E-4806-A034-27DC4AE2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D7D2C-EAA4-4E38-92B9-18AF53631E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