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03644"/>
        <c:axId val="12362632"/>
      </c:barChart>
      <c:catAx>
        <c:axId val="579036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62632"/>
        <c:crosses val="autoZero"/>
        <c:auto val="1"/>
        <c:lblAlgn val="ctr"/>
        <c:lblOffset val="100"/>
        <c:noMultiLvlLbl val="0"/>
      </c:catAx>
      <c:valAx>
        <c:axId val="12362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036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90A-B7E7-4707-AE07-593AC7D1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9BE-6B6C-4A8B-988F-DBB6833F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9BD-055C-4135-BD5C-98254AF0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D91-5A23-4B17-B794-020103B0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4C3-0C60-43B8-B6D2-24CD52C2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C4F-4E1E-4733-85BA-C6D7EC35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CAC-1E0A-4AE5-A81E-6F8A641D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8A6-887B-4625-B9E6-F13D46BF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D39-F92D-46D3-80ED-70C0E00C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C4C-663F-481A-83A8-7036A1A2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F65-043F-425A-B354-15A96E72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9DF-899B-4B65-96E8-99ACE729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79A0A-6CED-47A2-AC87-2FBF2B4F49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