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22575"/>
        <c:axId val="38159222"/>
      </c:barChart>
      <c:catAx>
        <c:axId val="7312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9222"/>
        <c:crosses val="autoZero"/>
        <c:auto val="1"/>
        <c:lblAlgn val="ctr"/>
        <c:lblOffset val="100"/>
        <c:noMultiLvlLbl val="0"/>
      </c:catAx>
      <c:valAx>
        <c:axId val="3815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2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8FA-C962-44A8-97B4-6F701F46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857-1F8B-4C07-8584-553B8FBE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7C1-7FD9-4EA5-9A5D-F3849AC7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9CB-DA74-48A7-9D53-FB4C15A5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2A0-EBFA-49A7-AB6C-A65EC04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E52-47CB-49CC-B191-00D40BA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612-AE65-4157-917B-ABFC8C0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A9E-00A4-45A0-99A0-E10E478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CC9-1FF8-4FB4-BD8D-8207800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968-A55F-42DD-9452-739DCDD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0FC-8C95-4BE8-B5D9-BD76436A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6B0-909A-48AC-B2AB-C68C8C3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49E4-2DAB-44AD-B50F-947FB14D6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